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8ED2-4B21-4657-B472-F12F43B8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B16-0564-429B-8BF3-772904B83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8DCD-6066-4EA8-B4F5-7746FF043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A5E7-2523-47B3-B44A-E3CC85B6B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631A-794F-47F5-9921-55D3EE5C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775-06A9-4FA8-ABA4-2848C559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2EA6E54F-937C-405A-ABFC-77E7703EC03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8F0CC35-2797-4AF6-B77D-2A9099C15F2B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F06B369-4FD9-40C6-9700-2D82C34CFB11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D9613C6-32F4-4A06-AC0B-A8F30B57C1D2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F0E59EAE-8EB4-4135-B9EF-F459ED01F97D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253D9F5-9326-4DC3-BAF3-621D82D4BD7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AA2C0EA-69ED-4391-B055-C264822CD247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CE22189C-1B87-479A-9674-2CA0F3EC67C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2: Desktop Publishing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sson 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sktop Publishing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top Publishing is using word processing skills in addi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that include: wordart, shapes, text boxes, and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s:  features used to enhance wor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Art:  decorativ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12D4D79-93E4-4BB2-9531-A5E545BB045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Graphic Features in </a:t>
            </a: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rectangles, circles, lines, curves, stars, banners, and smiley 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ready-made pictures, drawings, and s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text and graphics into           preformatted text 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t decorativ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DD6A7A1-1161-4116-A12F-272981ED8BCD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994360" y="2598840"/>
            <a:ext cx="668520" cy="449280"/>
          </a:xfrm>
          <a:prstGeom prst="rect">
            <a:avLst/>
          </a:prstGeom>
          <a:solidFill>
            <a:srgbClr val="8f80ba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-Point Star 5"/>
          <p:cNvSpPr/>
          <p:nvPr/>
        </p:nvSpPr>
        <p:spPr>
          <a:xfrm>
            <a:off x="8026560" y="2278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6"/>
          <p:cNvSpPr/>
          <p:nvPr/>
        </p:nvSpPr>
        <p:spPr>
          <a:xfrm>
            <a:off x="7053120" y="2511360"/>
            <a:ext cx="567000" cy="5508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C:\Program Files\Microsoft Office\MEDIA\CAGCAT10\j0234657.wmf"/>
          <p:cNvPicPr/>
          <p:nvPr/>
        </p:nvPicPr>
        <p:blipFill>
          <a:blip r:embed="rId1"/>
          <a:stretch/>
        </p:blipFill>
        <p:spPr>
          <a:xfrm>
            <a:off x="7707240" y="3581280"/>
            <a:ext cx="119052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2"/>
          <a:stretch/>
        </p:blipFill>
        <p:spPr>
          <a:xfrm>
            <a:off x="6027840" y="4392720"/>
            <a:ext cx="1623960" cy="1006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3"/>
          <a:stretch/>
        </p:blipFill>
        <p:spPr>
          <a:xfrm>
            <a:off x="5305320" y="5410080"/>
            <a:ext cx="16671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e Word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2960" y="1671120"/>
            <a:ext cx="7696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ab, Wor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Tools Format Tab, WordArt Styles Section, Select Text Effects/Transform for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ety of formatting features are also found on Drawing Tools Format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03E8E2E-D4B4-4588-BAD9-A2CF770E17B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1"/>
          <a:stretch/>
        </p:blipFill>
        <p:spPr>
          <a:xfrm>
            <a:off x="1336680" y="4861080"/>
            <a:ext cx="6848640" cy="1380960"/>
          </a:xfrm>
          <a:prstGeom prst="rect">
            <a:avLst/>
          </a:prstGeom>
          <a:ln w="0">
            <a:noFill/>
          </a:ln>
        </p:spPr>
      </p:pic>
      <p:sp>
        <p:nvSpPr>
          <p:cNvPr id="394" name="Oval 1"/>
          <p:cNvSpPr/>
          <p:nvPr/>
        </p:nvSpPr>
        <p:spPr>
          <a:xfrm>
            <a:off x="7531200" y="5711760"/>
            <a:ext cx="682560" cy="246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WordAr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599840"/>
            <a:ext cx="769608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Art Tools Format ta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Effects: shadow, reflection, glow, soft edges, bevel, 3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Effects:  shadow, glow, reflection, bevel, 3-D,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78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E317689-05A0-4A4D-A37B-4A10D4745128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160200" y="5159520"/>
            <a:ext cx="885348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0:31:47Z</dcterms:created>
  <dc:creator>Jean Bissell</dc:creator>
  <dc:description>Copyright 2006 South-Western/Thomson</dc:description>
  <dc:language>en-US</dc:language>
  <cp:lastModifiedBy>Lenessa Keehn</cp:lastModifiedBy>
  <dcterms:modified xsi:type="dcterms:W3CDTF">2011-02-22T16:48:17Z</dcterms:modified>
  <cp:revision>31</cp:revision>
  <dc:subject/>
  <dc:title>Slide 1</dc:title>
</cp:coreProperties>
</file>